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ED64-8D9D-4A62-AE43-9DCABD3B7F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E737-0D3D-4731-8F7E-7E208ABCF6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BBA-8BC7-47CD-9E05-777E1AC39F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4FA-FC62-4736-B426-CC61E15DDE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9F67-5A0A-4351-8582-2C7C4A0BB5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1D4-E10E-49C5-B021-C06F34A111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D87-B9C1-41AB-BD1E-0DC10264D2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6E9-4C96-4982-B4FC-A317F81C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670-3CE1-428D-A7DD-4657A04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EDC-F2FB-4733-9DD3-73C0BF6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835-B455-48C0-B2C2-7D98F2C4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8D91-58C2-42D6-AC42-5ED84228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1AC-27C5-4B6C-8B8B-42EF7DF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23E-2850-4A5E-8667-DD5DEB8F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102F-0B56-4F7B-BCBB-D776C66A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F3BD-70C5-4DCE-9645-9498F4E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77D-9310-4580-8005-4E101F28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70AA-80CE-47AC-AD23-52F7E613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1E3-D28F-4FFA-BBD6-93DCA3FF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36D-9632-4E0D-A36F-13463F3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2AB-D925-4E0D-B7FC-73317BC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E65B-3D3C-4AA9-9B51-D3171D03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2B4-9839-44CB-9C8B-D8937074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BD3-87BC-495D-B359-E335F024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1BD1-9721-4846-A2F5-FCB26060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D30C-A7DE-42BB-8498-DD47924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2EB25-AC7A-40E8-A5B6-630ADB5E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CA35-22C5-49B8-A327-E32A55E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153D-330F-4AB6-8898-7224DC5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5A8-B0E6-41B8-A5E1-A709ABF8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34BF-EB22-46FF-8030-32D17B70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DCFC-ECD8-4EA7-B86E-4D944FA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C8D6-E50E-46B0-BBCD-8457659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B2E4-15F0-4FBB-8E85-7D867A2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D0EC-6A25-4CBA-907E-991FC42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037C-E9C8-423C-BFC7-F91A14CE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2E40-7C79-435B-9262-E7B42180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15F9-BB4E-4122-B26C-9ACEF03E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2061-EA7D-45D5-8AE3-6E42FB9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F232B-2B96-4E74-9184-DF28464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E41-B889-4197-B6E7-633150C5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B856-0B27-42D7-9CD6-93DB040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77851-2C7B-409A-B9DA-9B26CC01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DF75-7F11-479A-AF3B-A4BB0E6C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2FCC-756C-483F-B6FA-9FB1769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E8BC-0554-4398-A5D9-BCDBBA8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A8A2-5415-411F-B880-06CEC8B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30DC-AD16-48D1-8046-0597F49A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E5ED-5797-4FFB-884F-08DACA87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FC9D-3A6D-45F0-9585-456E6901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08B4-7ABB-443B-8BC8-B5860F72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6F9-5C0D-4672-8028-0BA8C0D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952C-F7F7-48B9-9008-828EFA1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5B97-84A9-4563-9232-3CED6E6A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0CD4-2AAD-49D5-8C68-69ED9A90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6153-2A36-4471-983F-55768E07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D2B4-3432-41F8-874D-B13A1F4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5B45-DA3D-4D54-A6DC-6E23817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5055-0C5F-414A-BE39-1AC0D39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F3FE-ABB6-4A2A-A8C0-E7B0F78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9704A-5E8E-4301-8263-B6E35FC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EA79-4B57-4453-9A00-68637AD0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493-2A27-4E33-9573-29BB70B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94B6-5BAD-44AE-B5DE-FBE241E2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6E72-0177-4F53-8E7C-BD626B51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53E8-E1FF-4305-A184-FF15B79D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7D75-9839-4DA7-BE66-1B54927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533A-27B2-434F-AD46-58E9307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16DF-F6AC-43FD-ADF6-E3D3D0B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7952-3569-4304-9F17-942E3A8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DC8F-AFF3-4955-BA8E-E25ED07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FE7F-6F18-4F88-975B-FD8BD13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8DC4-C110-409C-85BD-9336AB5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DED-5C3E-4593-B992-7EA7D7A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4E3D-D95B-4C87-BA26-3B813EE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DFFA-808B-482D-83A7-DD9BB8BA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B685-6A38-46BC-B105-18E3F1A1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7636-E5A7-448D-914A-AA8AEEB3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3085-6682-403F-9EAB-76B34F18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F2D4C-CE1B-4F4E-B7C4-332AD469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1726-132E-4B00-8EA7-95A89A55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3C13-DED6-4BEA-9CDA-2861FD9C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E841-7516-4572-A8D4-CA0FF90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FB78-72B7-4C5C-BE7E-226C4C0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F36-3EE3-4D6A-89A5-B5DABF3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0301-2761-46B9-BB21-B31E49F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6E8C4-702D-4D22-B8F9-4C8947E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37E9-75CA-4AC5-BB1D-FB9B2334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F54E-6555-4CBB-BB8A-BBBA0FA4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0489-479B-4621-BC3D-A87D8C50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3EE-032B-4EAC-8578-11E613D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6F0-A23B-4598-A152-B027FD7625AE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C5F-8B6A-4A85-AEE4-3CD0777720E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63080" y="6180120"/>
            <a:ext cx="531360" cy="408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901-1851-46EE-8817-AC5561FA5C9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0325-9B40-4093-9F0E-87430F028003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DE9-216A-438E-9408-DA1C657230F0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E61-D958-4485-BA45-AD8489AA25EB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5943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DCF-F652-4805-8B50-A7F1E4B3527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809880" y="594324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20320" y="6012720"/>
            <a:ext cx="80820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lide </a:t>
            </a:r>
            <a:fld id="{D7BC52C2-CF89-4C6D-B5E5-8A2BDE48668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9140000">
            <a:off x="245880" y="1626480"/>
            <a:ext cx="68040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Data Teams at stanton network schoo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n the context of THE seed teacher eval progra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resented by Billie Shea &amp; Jane Cook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dapted from materials developed by the Leadership and Learning Center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361F7E1E-F589-4D0D-AD61-B21C6CA5473E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93280" y="1187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CCT Teacher Evaluation Rubric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Domains and Indicato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does it look like in practic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Tools and Direction for Goal Setting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tudent Learning Objectives (SLOs an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Focus Area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80880" y="4334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"/>
                <a:ea typeface="ＭＳ Ｐゴシック"/>
              </a:rPr>
              <a:t>Purpose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8B49E422-05A6-4213-936F-3AC131C50AC3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Assume positive inten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Take an inquiry st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Respect equal opportunities for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everyone to participate and be hear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One person to speak at a time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66996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"/>
                <a:ea typeface="ＭＳ Ｐゴシック"/>
              </a:rPr>
              <a:t>Conversation Norms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03554D0E-794C-4392-8459-0A6E8812747F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ata Team Acti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ata Teams adhere to continuous improvement cycles, examine patterns and trends, and establish specific timelines, roles, and responsibilities to facilitate analysis that results in action.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S. White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eyond the Number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2005, p. 1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tle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llustration of Core Requirements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SEED Teacher Evaluation PILO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23" name="Straight Arrow Connector 9"/>
          <p:cNvCxnSpPr>
            <a:stCxn id="324" idx="2"/>
            <a:endCxn id="325" idx="0"/>
          </p:cNvCxnSpPr>
          <p:nvPr/>
        </p:nvCxnSpPr>
        <p:spPr>
          <a:xfrm>
            <a:off x="1176480" y="1820520"/>
            <a:ext cx="1124640" cy="82620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>
            <a:stCxn id="327" idx="2"/>
            <a:endCxn id="325" idx="0"/>
          </p:cNvCxnSpPr>
          <p:nvPr/>
        </p:nvCxnSpPr>
        <p:spPr>
          <a:xfrm flipH="1">
            <a:off x="2300040" y="2314440"/>
            <a:ext cx="1094400" cy="33264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grpSp>
        <p:nvGrpSpPr>
          <p:cNvPr id="328" name="Group 18"/>
          <p:cNvGrpSpPr/>
          <p:nvPr/>
        </p:nvGrpSpPr>
        <p:grpSpPr>
          <a:xfrm>
            <a:off x="270000" y="990720"/>
            <a:ext cx="8645400" cy="3914640"/>
            <a:chOff x="270000" y="990720"/>
            <a:chExt cx="8645400" cy="3914640"/>
          </a:xfrm>
        </p:grpSpPr>
        <p:sp>
          <p:nvSpPr>
            <p:cNvPr id="324" name="TextBox 2"/>
            <p:cNvSpPr/>
            <p:nvPr/>
          </p:nvSpPr>
          <p:spPr>
            <a:xfrm>
              <a:off x="27000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Student Growth and Development (4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7" name="TextBox 3"/>
            <p:cNvSpPr/>
            <p:nvPr/>
          </p:nvSpPr>
          <p:spPr>
            <a:xfrm>
              <a:off x="2449440" y="990720"/>
              <a:ext cx="1887480" cy="131076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Whole-school Student Learning Indicators or Student Feedback (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9" name="TextBox 4"/>
            <p:cNvSpPr/>
            <p:nvPr/>
          </p:nvSpPr>
          <p:spPr>
            <a:xfrm>
              <a:off x="479448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Observations of Performance and  Practice (4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0" name="TextBox 5"/>
            <p:cNvSpPr/>
            <p:nvPr/>
          </p:nvSpPr>
          <p:spPr>
            <a:xfrm>
              <a:off x="7102440" y="990720"/>
              <a:ext cx="1812960" cy="58068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Peer or Parent Feedback (1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1" name="TextBox 6"/>
            <p:cNvSpPr/>
            <p:nvPr/>
          </p:nvSpPr>
          <p:spPr>
            <a:xfrm>
              <a:off x="6004080" y="262728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Practice Rating (based on Cause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5" name="TextBox 7"/>
            <p:cNvSpPr/>
            <p:nvPr/>
          </p:nvSpPr>
          <p:spPr>
            <a:xfrm>
              <a:off x="1393920" y="264636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Outcome Rating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(based on Effects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2" name="TextBox 8"/>
            <p:cNvSpPr/>
            <p:nvPr/>
          </p:nvSpPr>
          <p:spPr>
            <a:xfrm>
              <a:off x="1393920" y="4262760"/>
              <a:ext cx="6423120" cy="64260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All factors are combined to reach each teacher</a:t>
              </a:r>
              <a:r>
                <a:rPr b="0" lang="ja-JP" sz="1800" spc="-1" strike="noStrike">
                  <a:solidFill>
                    <a:srgbClr val="717074"/>
                  </a:solidFill>
                  <a:latin typeface="Calibri"/>
                </a:rPr>
                <a:t>’</a:t>
              </a: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s final annual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rating (as described in the Connecticut guidelines)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333" name="Straight Arrow Connector 10"/>
            <p:cNvCxnSpPr>
              <a:stCxn id="331" idx="2"/>
              <a:endCxn id="332" idx="0"/>
            </p:cNvCxnSpPr>
            <p:nvPr/>
          </p:nvCxnSpPr>
          <p:spPr>
            <a:xfrm flipH="1">
              <a:off x="4605120" y="3551040"/>
              <a:ext cx="2305440" cy="711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4" name="Straight Arrow Connector 11"/>
            <p:cNvCxnSpPr/>
            <p:nvPr/>
          </p:nvCxnSpPr>
          <p:spPr>
            <a:xfrm flipH="1">
              <a:off x="6832440" y="1638360"/>
              <a:ext cx="984960" cy="1008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5" name="Straight Arrow Connector 13"/>
            <p:cNvCxnSpPr>
              <a:stCxn id="325" idx="2"/>
              <a:endCxn id="332" idx="0"/>
            </p:cNvCxnSpPr>
            <p:nvPr/>
          </p:nvCxnSpPr>
          <p:spPr>
            <a:xfrm>
              <a:off x="2300040" y="3570480"/>
              <a:ext cx="2305440" cy="69264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6" name="Straight Arrow Connector 14"/>
            <p:cNvCxnSpPr>
              <a:stCxn id="329" idx="2"/>
            </p:cNvCxnSpPr>
            <p:nvPr/>
          </p:nvCxnSpPr>
          <p:spPr>
            <a:xfrm>
              <a:off x="5700960" y="1820520"/>
              <a:ext cx="1132560" cy="82620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</p:grpSp>
      <p:sp>
        <p:nvSpPr>
          <p:cNvPr id="337" name="Date Placeholder 1"/>
          <p:cNvSpPr/>
          <p:nvPr/>
        </p:nvSpPr>
        <p:spPr>
          <a:xfrm>
            <a:off x="4114800" y="6400800"/>
            <a:ext cx="453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Adapted from CSDE Teacher Evaluation Orientation, 8/10/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6259680"/>
            <a:ext cx="1143000" cy="59832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5"/>
          <p:cNvSpPr/>
          <p:nvPr/>
        </p:nvSpPr>
        <p:spPr>
          <a:xfrm>
            <a:off x="8229600" y="6172200"/>
            <a:ext cx="674640" cy="501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1F15BAD7-AD78-418D-A67A-2C8759AC2DDC}" type="slidenum">
              <a:rPr b="0" lang="en-US" sz="13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76320" y="198108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tudent Learning Objectives (SLO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7572240" y="1828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bservations &amp; Survey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Straight Connector 27"/>
          <p:cNvSpPr/>
          <p:nvPr/>
        </p:nvSpPr>
        <p:spPr>
          <a:xfrm>
            <a:off x="4572000" y="990720"/>
            <a:ext cx="33480" cy="3124080"/>
          </a:xfrm>
          <a:prstGeom prst="line">
            <a:avLst/>
          </a:prstGeom>
          <a:ln w="9360">
            <a:solidFill>
              <a:srgbClr val="7678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4E9DF2D2-0F69-43B7-A387-1E6F8D46CAC7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214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Team Proc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763560"/>
            <a:ext cx="88394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Collect and chart data AK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easure Hu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Analyze strengths and obstacl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Establish SMART goals that are Specific, Measurable, Achievable, Relevant/Realistic, and Timely: Set, Review, Revis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Select instructional strategies:  What effective teaching strategies will adults use to help students achieve SMART goals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Determine results indicators:  What measures will we use?  How will we know that we have succeeded?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-301680" y="5181480"/>
            <a:ext cx="970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Taking Stock --- Focus on the Right Solution –Take Collective Action – Monitor/Adjust –Maintain Momentu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8077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he data Team process aligns with setting Student learning objectives IN SEE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822240" y="1100160"/>
          <a:ext cx="7521840" cy="3608280"/>
        </p:xfrm>
        <a:graphic>
          <a:graphicData uri="http://schemas.openxmlformats.org/drawingml/2006/table">
            <a:tbl>
              <a:tblPr/>
              <a:tblGrid>
                <a:gridCol w="3760920"/>
                <a:gridCol w="376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he Data Team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acher Goal Setting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1:  Treasure H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seline Data/Backgrou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2:  Identify 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O &amp; Rationale for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3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lish SMART go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t IAG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4: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rategies/Actions to achieve S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2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5:  Identify results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im Assessments &amp; Data Collection/Assessment of Progress Toward Achieving the 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50" name="TextBox 4"/>
          <p:cNvSpPr/>
          <p:nvPr/>
        </p:nvSpPr>
        <p:spPr>
          <a:xfrm>
            <a:off x="-301680" y="5181480"/>
            <a:ext cx="970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Taking Stock --- Focus on the Right Solution –Take Collective Action – Monitor/Adjust –Maintain Momentu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3809880" y="5943600"/>
            <a:ext cx="426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8153280" y="5943600"/>
            <a:ext cx="838440" cy="533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6EB-C6D8-46A1-8D88-5B33F3AEA0D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Leadership/Learning Matrix (L2 Matrix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914400" y="914400"/>
          <a:ext cx="7620120" cy="41846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20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sing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failure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mistake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36"/>
          <p:cNvSpPr/>
          <p:nvPr/>
        </p:nvSpPr>
        <p:spPr>
          <a:xfrm>
            <a:off x="1523880" y="5105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ntecedents – Adult Actions/Interven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use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Text Box 37"/>
          <p:cNvSpPr/>
          <p:nvPr/>
        </p:nvSpPr>
        <p:spPr>
          <a:xfrm rot="10800000">
            <a:off x="304560" y="151920"/>
            <a:ext cx="6069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Effects/Results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A8E735FE-4500-46CC-884C-17B3A6CFC88D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Read the NPS Hybrid/SEED Plan, Review the District Improvement Plan, Network Goals and Pl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Collect and Analyze Data to Inform SLO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Draft SLOs and Focus Area Goal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Align SLOs and Focus Area Goals to the District Improvement Plan, Network Plan and 3 Core Network Goal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Schedule Goal Setting Conference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228600" y="5029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*** We will use the September 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Staff Meeting as a working session to develop our goals togeth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20:56Z</dcterms:created>
  <dc:creator>Jane Cook</dc:creator>
  <dc:description/>
  <dc:language>en-US</dc:language>
  <cp:lastModifiedBy>Jane Cook</cp:lastModifiedBy>
  <cp:lastPrinted>2012-10-23T14:50:55Z</cp:lastPrinted>
  <dcterms:modified xsi:type="dcterms:W3CDTF">2013-08-26T01:41:00Z</dcterms:modified>
  <cp:revision>63</cp:revision>
  <dc:subject/>
  <dc:title>Data Teams  at Windham Middle School</dc:title>
</cp:coreProperties>
</file>